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9CD1-2C1E-4D05-BC6B-70CADDD82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546B-6A2A-4952-82B9-68528686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E59C-6E8C-4DCC-8C32-7D7044CCF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293A-6E51-45F8-9B85-3E6D878AC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46D3-35C4-4FA3-A2D7-13260056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C9D5-CEF1-41A9-BB96-A8404CE8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00AB-3467-4DD0-AF05-C4242E73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BC35-08E0-4768-BDF6-275214DE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7398-7843-4B5E-ABB4-92BE70B1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E550-E51A-486D-B0D2-41D3B27E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D070-5F26-41CE-9732-DD1743C0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50EE-92D9-4B8E-A8F5-E2DE03AE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D695-D7BC-4D91-ADA2-37C0B3DBD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k12handhelds.com/101list.php" TargetMode="External"/><Relationship Id="rId2" Type="http://schemas.openxmlformats.org/officeDocument/2006/relationships/hyperlink" Target="http://www.k12handhelds.com/101list.php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56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arm U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809280"/>
            <a:ext cx="8229600" cy="330516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lease get out a piece of scrap paper and a pencil or p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reate 2 bulleted lis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at students should do with Handh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at students should NOT do with Handhel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es" descr=""/>
          <p:cNvPicPr/>
          <p:nvPr/>
        </p:nvPicPr>
        <p:blipFill>
          <a:blip r:embed="rId1">
            <a:alphaModFix amt="43000"/>
          </a:blip>
          <a:stretch/>
        </p:blipFill>
        <p:spPr>
          <a:xfrm rot="1848000">
            <a:off x="7695720" y="4571640"/>
            <a:ext cx="1176480" cy="167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762120" y="4267080"/>
          <a:ext cx="6705360" cy="2471400"/>
        </p:xfrm>
        <a:graphic>
          <a:graphicData uri="http://schemas.openxmlformats.org/drawingml/2006/table">
            <a:tbl>
              <a:tblPr/>
              <a:tblGrid>
                <a:gridCol w="3352680"/>
                <a:gridCol w="3352680"/>
              </a:tblGrid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students should do with Handhel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students should NOT do with Handhel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56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ata Input Direc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790200"/>
            <a:ext cx="8200800" cy="591516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o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astleman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iraffe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raffe setting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p on red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iraff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left cor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me |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o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astleman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e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actice writing with Graffiti and soft key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images" descr=""/>
          <p:cNvPicPr/>
          <p:nvPr/>
        </p:nvPicPr>
        <p:blipFill>
          <a:blip r:embed="rId1">
            <a:alphaModFix amt="43000"/>
          </a:blip>
          <a:stretch/>
        </p:blipFill>
        <p:spPr>
          <a:xfrm rot="1848000">
            <a:off x="6019560" y="3962520"/>
            <a:ext cx="1176120" cy="1674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bbe0e3"/>
                </a:solidFill>
                <a:uFillTx/>
                <a:latin typeface="Arial"/>
              </a:rPr>
              <a:t>Wrap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solidFill>
            <a:srgbClr val="1d4245"/>
          </a:solidFill>
          <a:ln w="5724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YOUR HOMEWORK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71440" y="123480"/>
            <a:ext cx="8610480" cy="1066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Arial"/>
              </a:rPr>
              <a:t>101 Handheld Uses – Student Inter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http://www.k12handhelds.com/101list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p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cript MT Bold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268280"/>
            <a:ext cx="4267080" cy="544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anguage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d an e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rite an ebook and share it with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uct group writing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ok up a word in a thesaur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udy a foreign langu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ok up a word in a dictio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ke a concept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ild vocabulary through word g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your reading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d about the latest current ev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ke part in a collaborative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lculation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a calc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ap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actice multiplication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m, visualize, and solve equatio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cord and tabulate gra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95840" y="1262160"/>
            <a:ext cx="4191120" cy="5448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cript MT Bold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cript MT Bold"/>
                <a:ea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reative Skills</a:t>
            </a:r>
            <a:r>
              <a:rPr b="0" lang="en-US" sz="1800" spc="-1" strike="noStrike">
                <a:solidFill>
                  <a:srgbClr val="000000"/>
                </a:solidFill>
                <a:latin typeface="Script MT Bold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udy and compose mu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aw a 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udy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ke notes in 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reate an outli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cord voice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udy for a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tegrated Skil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ve students turn in an assignment electron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ke a pres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ke a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ke a spread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reate a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flashcar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ew and use 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llaborate on a graphic organi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ff0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76320" y="1014480"/>
            <a:ext cx="906768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8120" indent="-16812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Handheld Unit: Introduction…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Today we will master 3 Objectives to use Handhelds in the classroo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e Prepared to Learn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today’s Handheld lessons (3 Objectives), you will be much more successful with tomorrow’s Handheld lesson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ake Good Choices…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 you are not able to cooperate when using the Handhelds, you will not have the privilege of using them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ow Respect to Others, Self and Property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spect your classmates… Respect your learning… Respect Handheld equip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elcome! 5-31-06 – Mrs. Castleman’s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24880" cy="35812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99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Students 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  <a:ea typeface="Times New Roman"/>
              </a:rPr>
              <a:t>will develop classroom rules for Handheld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5256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Objective #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0" y="299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ndheld R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15000"/>
          </a:xfrm>
          <a:prstGeom prst="rect">
            <a:avLst/>
          </a:prstGeom>
          <a:solidFill>
            <a:srgbClr val="bbe0e3"/>
          </a:solidFill>
          <a:ln w="38160">
            <a:solidFill>
              <a:srgbClr val="99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ndheld R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15000"/>
          </a:xfrm>
          <a:prstGeom prst="rect">
            <a:avLst/>
          </a:prstGeom>
          <a:solidFill>
            <a:srgbClr val="bbe0e3"/>
          </a:solidFill>
          <a:ln w="38160">
            <a:solidFill>
              <a:srgbClr val="99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Don’t drop Handhel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Stay in your seat while you have the Handhe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Do not use any kind of pencil or pen on the screen other than a styl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Make sure the stylus is in the hold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Arial"/>
              </a:rPr>
              <a:t>At the end of class, power off and put it back on the car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8280" y="1600200"/>
            <a:ext cx="7772400" cy="26668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99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Students 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  <a:ea typeface="Times New Roman"/>
              </a:rPr>
              <a:t>will learn to use the Handheld operating system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5256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Objective #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40" y="299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ndheld 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847800"/>
            <a:ext cx="8229600" cy="5333760"/>
          </a:xfrm>
          <a:prstGeom prst="rect">
            <a:avLst/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held Use Agreemen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ign Handhelds – always use the same number Handheld assigned to you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on and explo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IET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your own until notifi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y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ck Tour –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raffe – Data E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word f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ndheld Quick T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562720"/>
          </a:xfrm>
          <a:prstGeom prst="rect">
            <a:avLst/>
          </a:prstGeom>
          <a:solidFill>
            <a:srgbClr val="99cc00"/>
          </a:solidFill>
          <a:ln w="38160">
            <a:solidFill>
              <a:srgbClr val="bbe0e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ature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lid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creen Rotation: mentioned 2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tatus Bar: Battery Ch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ing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otSy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Graffiti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pu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put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Keyboard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ea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ffiti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ere to W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riting T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etters, Numbers, Capital Letters, Punctuation, Graffiti 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38280" y="1600200"/>
            <a:ext cx="7772400" cy="26668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99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Students 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  <a:ea typeface="Times New Roman"/>
              </a:rPr>
              <a:t>will learn to input data using a Handheld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5256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Objective #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40" y="299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2T20:42:30Z</dcterms:created>
  <dc:creator>BCPS</dc:creator>
  <dc:description/>
  <dc:language>en-US</dc:language>
  <cp:lastModifiedBy>FCPS</cp:lastModifiedBy>
  <dcterms:modified xsi:type="dcterms:W3CDTF">2006-05-30T18:37:48Z</dcterms:modified>
  <cp:revision>135</cp:revision>
  <dc:subject/>
  <dc:title>Drill</dc:title>
</cp:coreProperties>
</file>